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F85-1663-4CCB-A3CA-814BFAF2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6EE-39D4-434B-AF40-A7458749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97D-51D5-4322-8D0F-57ABC6AE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24B-3CF9-4ECC-AF8E-6047AE4E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167-A664-4FA3-BFEF-8AA7760A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CDC2-8EF1-4CC5-9891-0E87A366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685-BB75-465A-A561-76358395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FD2-4988-410D-975C-BE6FA74D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3DDA-E370-4757-A625-4A39B4E7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1627-5876-485F-A450-EABF8C11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385-76B0-4264-B5AC-263D31D0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CC3-6C2D-4721-B41C-4B4C9BA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651C-493F-4E35-A944-CF42709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8B6-2D88-401D-B49F-936A1D2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0C0-F83E-44EC-8DA5-49D58F37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87E9-389A-4CE3-B886-26B1016C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854-541E-4B7B-9A48-A6814166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FF2-8975-40A2-832A-E5629CD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150-EF7B-421A-B4AC-E74D616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7E4-E2F9-4C80-AC60-03C6378C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DB3-8805-46D3-A7CB-61E7AA19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D0B-5383-4A41-9A89-506B598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7E0-E98A-4051-9580-53BC8F9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07B-CBB7-47E4-92B8-95951955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F6C0-16F1-448D-85D9-1CA9C402F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7F2-ED84-4A6A-AD6E-0ABCB51BE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atya Nal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RAM is an integral part of most So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utomate SRAM desig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-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E17-76E2-4BAF-8877-DE7E601FD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590920"/>
            <a:ext cx="2057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ematic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52578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out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514600"/>
            <a:ext cx="2057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502920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RAM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579600" cy="663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447920" y="28195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00400" y="289512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4520" y="327672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962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ignpa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343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495680"/>
            <a:ext cx="8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419720"/>
            <a:ext cx="32767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5105160" cy="4724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3886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adence SK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1523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B8C-5BC5-4B2E-8AF9-248072385A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RA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AM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b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– 8-32k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-mux – 1,2,4,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– 8-5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Rows and #cols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ing block using en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/Layout script for tiling each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 script to generate final S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782800" cy="3733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56080" y="2887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FE4-7019-4761-8444-9B728E0A3D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ble leaf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 Vias programmed in SKILL for decoder/WL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287960" cy="200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2286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5521320" cy="250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44920" y="5815080"/>
            <a:ext cx="30492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78440" y="5149800"/>
            <a:ext cx="30456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2590920"/>
            <a:ext cx="2895840" cy="9144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05320"/>
            <a:ext cx="1676520" cy="16761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4724280"/>
            <a:ext cx="11430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zed by SRAM optimiz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638680"/>
            <a:ext cx="4038480" cy="0"/>
          </a:xfrm>
          <a:prstGeom prst="line">
            <a:avLst/>
          </a:prstGeom>
          <a:ln w="1908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302-D42A-4823-812B-B4E8990A1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uting by abut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74320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048120"/>
            <a:ext cx="76212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2971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g taking care of internal to lea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f-cel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al between two leaf cells – E.g. WL between WL Driver and Bit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320040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124080" y="32004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ABA-DCB0-4167-BDD0-C6D487253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48040" y="2438280"/>
            <a:ext cx="1243080" cy="1792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309760" y="3352680"/>
            <a:ext cx="11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2240" y="5257800"/>
            <a:ext cx="2249640" cy="1149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95360" y="19051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column circuitry layouts gene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6240" y="3008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ault, Col-mux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85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erent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4824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-mux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07240" y="5365800"/>
            <a:ext cx="152280" cy="152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43320" y="548640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082920" y="2971800"/>
            <a:ext cx="69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2920" y="3048120"/>
            <a:ext cx="6922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9440" y="2895480"/>
            <a:ext cx="16002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08E-7CB1-45FC-8CF3-A4D3A8FF2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chematic-generation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-cell layout scri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level layout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/Tes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generation (FreePD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T-RAM (Anura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 + Layout generation (ST 6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-leakage cancelling SA (Sudhansh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-ended SA (Jo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E74-0965-42A1-A59C-677C0A31A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ing leaf-cell layout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-cell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 optimizer with SRAM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Write optimizer output to conf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uman interven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improve user/technology-in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1A4-B149-4FCE-BBB1-9B309328D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0:24:43Z</dcterms:created>
  <dc:creator>uva</dc:creator>
  <dc:description/>
  <dc:language>en-US</dc:language>
  <cp:lastModifiedBy>uva</cp:lastModifiedBy>
  <dcterms:modified xsi:type="dcterms:W3CDTF">2010-04-21T23:16:38Z</dcterms:modified>
  <cp:revision>43</cp:revision>
  <dc:subject/>
  <dc:title>SRAM Generator</dc:title>
</cp:coreProperties>
</file>